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wmf" ContentType="image/x-wmf"/>
  <Override PartName="/ppt/media/image19.jpeg" ContentType="image/jpeg"/>
  <Override PartName="/ppt/media/image25.jpeg" ContentType="image/jpeg"/>
  <Override PartName="/ppt/media/image2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4.wmf" ContentType="image/x-wmf"/>
  <Override PartName="/ppt/media/image24.jpeg" ContentType="image/jpeg"/>
  <Override PartName="/ppt/media/image3.jpeg" ContentType="image/jpeg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10FC-4136-468C-8610-DAD5F25D6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7F97-F7BD-4B35-8C11-EA98B155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3118-8904-4CFC-89EA-CD4198A1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5CB3-BB04-46C7-A0A6-9ED127813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030D-F105-4F13-9AEA-0B1CA002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8F2C-4708-4490-9460-78558B2E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7B63-EE87-4D74-A0A9-0D3D7FD7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98AF-5534-4E5C-ABBB-6E99BAAE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C31C-467A-4E20-8910-1D3104E2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B904-78F2-4865-8B21-BD089288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37EE-2917-4457-8EF3-D46AAA62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EF8D-C073-4FEA-A322-386E0EE0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109D-DB33-4F5B-AF86-513BC09B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7725-3FEA-48CB-BCDA-F10B6D3E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FA89-2D15-44E9-9888-8D0B6934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9B54-CDD0-4D17-9765-50F2F10C4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E7D2-3F2C-4885-8FE0-8CB1D2EE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5126-1031-4EBE-BC97-B67DB72B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5424-3DF3-4276-9764-AA7E5667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5A28-A99C-44BB-A11A-BCD259D3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BAFC-1A02-41C0-A896-A306EA9F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6ECA-56A5-4919-9D46-04BB88F5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B5ED-A500-40A6-9195-D56BE9AC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7483-06EB-460D-9549-12B99C7C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CA0E-0504-4CB5-8505-4752B6327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C84A-AF37-46D1-843D-A1C13C3C6D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Белки. Проблема  синтеза белков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6" descr="пы"/>
          <p:cNvPicPr/>
          <p:nvPr/>
        </p:nvPicPr>
        <p:blipFill>
          <a:blip r:embed="rId1"/>
          <a:stretch/>
        </p:blipFill>
        <p:spPr>
          <a:xfrm>
            <a:off x="4284720" y="2781360"/>
            <a:ext cx="3959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троение белк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д первичной структурой белка понимают число и последовательность аминокислот, соединенных друг с другом пептидными связями в полипептидной цеп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7" descr="{B074B8AD-67A9-4515-98C6-26CB297AE431}"/>
          <p:cNvPicPr/>
          <p:nvPr/>
        </p:nvPicPr>
        <p:blipFill>
          <a:blip r:embed="rId1"/>
          <a:stretch/>
        </p:blipFill>
        <p:spPr>
          <a:xfrm>
            <a:off x="4452840" y="1341360"/>
            <a:ext cx="4392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44416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всякого белка характерна помимо первичной еще и определенная вторичная структура. Обычно белковая молекула напоминает растянутую пружину. Это так называемая α-спираль, стабилизируемая множеством водородных связей, возникающих между находящимися поблизости друг от друга СО- 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групп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7" descr="{BBE8BE40-FBA9-4281-A2D5-AEA24EA34F5E}"/>
          <p:cNvPicPr/>
          <p:nvPr/>
        </p:nvPicPr>
        <p:blipFill>
          <a:blip r:embed="rId1"/>
          <a:stretch/>
        </p:blipFill>
        <p:spPr>
          <a:xfrm>
            <a:off x="5076720" y="549360"/>
            <a:ext cx="3521160" cy="2736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L23p10p00"/>
          <p:cNvPicPr/>
          <p:nvPr/>
        </p:nvPicPr>
        <p:blipFill>
          <a:blip r:embed="rId2"/>
          <a:stretch/>
        </p:blipFill>
        <p:spPr>
          <a:xfrm>
            <a:off x="4859280" y="3500280"/>
            <a:ext cx="37702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43192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большинства белков полипептидные цепи свернуты особым образом в компактную глобулу. Способ свертывания полипептидных цепей глобулярных белков называется третичной структурой. Третичная структура поддерживается связями трех типов – ионными, водородными и дисульфидными, а также гидрофобными взаимодействи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7" descr="{3C828F5A-4FA2-4ED6-A698-B3B0E148AB48}"/>
          <p:cNvPicPr/>
          <p:nvPr/>
        </p:nvPicPr>
        <p:blipFill>
          <a:blip r:embed="rId1"/>
          <a:stretch/>
        </p:blipFill>
        <p:spPr>
          <a:xfrm>
            <a:off x="4788000" y="620640"/>
            <a:ext cx="3927240" cy="2737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L23p02p02"/>
          <p:cNvPicPr/>
          <p:nvPr/>
        </p:nvPicPr>
        <p:blipFill>
          <a:blip r:embed="rId2"/>
          <a:stretch/>
        </p:blipFill>
        <p:spPr>
          <a:xfrm>
            <a:off x="4859280" y="3573360"/>
            <a:ext cx="37702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4608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ногие белки с особо сложным строением состоят из нескольких полипептидных цепей, удерживаемых в молекуле вместе за счет гидрофобных взаимодействий, а также при помощи водородных и ионных связей. Способ совместной упаковки и укладки этих полипептидных цепей называют четвертичной структурой бел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10" descr="{9D733D42-9CE6-4D17-870D-77F3193FD8AD}"/>
          <p:cNvPicPr/>
          <p:nvPr/>
        </p:nvPicPr>
        <p:blipFill>
          <a:blip r:embed="rId1"/>
          <a:stretch/>
        </p:blipFill>
        <p:spPr>
          <a:xfrm>
            <a:off x="5003640" y="333360"/>
            <a:ext cx="3527640" cy="3395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L23p10p01"/>
          <p:cNvPicPr/>
          <p:nvPr/>
        </p:nvPicPr>
        <p:blipFill>
          <a:blip r:embed="rId2"/>
          <a:stretch/>
        </p:blipFill>
        <p:spPr>
          <a:xfrm>
            <a:off x="5003640" y="3789360"/>
            <a:ext cx="377064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Биосинтез белк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10" descr="001"/>
          <p:cNvPicPr/>
          <p:nvPr/>
        </p:nvPicPr>
        <p:blipFill>
          <a:blip r:embed="rId1"/>
          <a:stretch/>
        </p:blipFill>
        <p:spPr>
          <a:xfrm>
            <a:off x="539640" y="1773360"/>
            <a:ext cx="3024360" cy="2054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1"/>
          <p:cNvPicPr/>
          <p:nvPr/>
        </p:nvPicPr>
        <p:blipFill>
          <a:blip r:embed="rId2"/>
          <a:stretch/>
        </p:blipFill>
        <p:spPr>
          <a:xfrm>
            <a:off x="5033880" y="2000160"/>
            <a:ext cx="3695760" cy="1828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2"/>
          <p:cNvPicPr/>
          <p:nvPr/>
        </p:nvPicPr>
        <p:blipFill>
          <a:blip r:embed="rId3"/>
          <a:stretch/>
        </p:blipFill>
        <p:spPr>
          <a:xfrm>
            <a:off x="539640" y="4076640"/>
            <a:ext cx="3597480" cy="2244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03"/>
          <p:cNvPicPr/>
          <p:nvPr/>
        </p:nvPicPr>
        <p:blipFill>
          <a:blip r:embed="rId4"/>
          <a:stretch/>
        </p:blipFill>
        <p:spPr>
          <a:xfrm>
            <a:off x="5003640" y="4076640"/>
            <a:ext cx="347364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3" descr="1"/>
          <p:cNvPicPr/>
          <p:nvPr/>
        </p:nvPicPr>
        <p:blipFill>
          <a:blip r:embed="rId1"/>
          <a:stretch/>
        </p:blipFill>
        <p:spPr>
          <a:xfrm>
            <a:off x="468360" y="792000"/>
            <a:ext cx="4032360" cy="2846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1"/>
          <p:cNvPicPr/>
          <p:nvPr/>
        </p:nvPicPr>
        <p:blipFill>
          <a:blip r:embed="rId2"/>
          <a:stretch/>
        </p:blipFill>
        <p:spPr>
          <a:xfrm>
            <a:off x="5003640" y="765000"/>
            <a:ext cx="3602160" cy="2714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" descr="1"/>
          <p:cNvPicPr/>
          <p:nvPr/>
        </p:nvPicPr>
        <p:blipFill>
          <a:blip r:embed="rId3"/>
          <a:stretch/>
        </p:blipFill>
        <p:spPr>
          <a:xfrm>
            <a:off x="900000" y="3743280"/>
            <a:ext cx="3367080" cy="2925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" descr="1"/>
          <p:cNvPicPr/>
          <p:nvPr/>
        </p:nvPicPr>
        <p:blipFill>
          <a:blip r:embed="rId4"/>
          <a:stretch/>
        </p:blipFill>
        <p:spPr>
          <a:xfrm>
            <a:off x="5076720" y="3716280"/>
            <a:ext cx="3425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6" descr="08020302"/>
          <p:cNvPicPr/>
          <p:nvPr/>
        </p:nvPicPr>
        <p:blipFill>
          <a:blip r:embed="rId1"/>
          <a:stretch/>
        </p:blipFill>
        <p:spPr>
          <a:xfrm>
            <a:off x="250920" y="404640"/>
            <a:ext cx="871380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НК матриц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и РНК матриц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л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Стрелка вправо 3"/>
          <p:cNvSpPr/>
          <p:nvPr/>
        </p:nvSpPr>
        <p:spPr>
          <a:xfrm>
            <a:off x="4071960" y="1928880"/>
            <a:ext cx="977760" cy="64296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Стрелка вниз 4"/>
          <p:cNvSpPr/>
          <p:nvPr/>
        </p:nvSpPr>
        <p:spPr>
          <a:xfrm>
            <a:off x="5643720" y="2714760"/>
            <a:ext cx="1214280" cy="785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начение синтеза белков для 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i"/>
          <p:cNvPicPr/>
          <p:nvPr/>
        </p:nvPicPr>
        <p:blipFill>
          <a:blip r:embed="rId1"/>
          <a:stretch/>
        </p:blipFill>
        <p:spPr>
          <a:xfrm>
            <a:off x="571680" y="1521000"/>
            <a:ext cx="812160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елки - обязательная составная часть всех живых клеток, играют исключительно важную роль в живой природе, являются главным, наиболее ценным и незаменимым компонентом питания. Это связанно с той огромной ролью, которую они играют в процессах развития и жизни человека. Белки являются основой структурных элементов и тканей, поддерживают обмен веществ и энергии, участвуют в процессах роста и размножения, обеспечивают механизмы движений, развитие иммунных реакций, необходимы для функционирования всех органов и систем организм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11280" y="7650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елок – это высокомолекулярное органическое соединение, представляющее собой биополимер, состоящий из мономеров,  которыми являются аминокислоты соединенные пептидной связь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L23p02p01"/>
          <p:cNvPicPr/>
          <p:nvPr/>
        </p:nvPicPr>
        <p:blipFill>
          <a:blip r:embed="rId1"/>
          <a:stretch/>
        </p:blipFill>
        <p:spPr>
          <a:xfrm>
            <a:off x="3132000" y="2492280"/>
            <a:ext cx="550872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"Жизнь - это форма существования белка"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0" name="Picture 4" descr="Презентация «Белки», слайд № 1"/>
          <p:cNvPicPr/>
          <p:nvPr/>
        </p:nvPicPr>
        <p:blipFill>
          <a:blip r:embed="rId1"/>
          <a:stretch/>
        </p:blipFill>
        <p:spPr>
          <a:xfrm>
            <a:off x="1619280" y="1916280"/>
            <a:ext cx="6119640" cy="46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b7"/>
                </a:solidFill>
                <a:latin typeface="Arial Black"/>
              </a:rPr>
              <a:t>История открытия белк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1530000"/>
            <a:ext cx="8007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Вещества белковой природы известны с древних времен. Начало их изучения положено в середине 18 в. итальянцем Я. Беккари, но только через 100 лет ученым удалось систематизировать свойства белков  и сделать вывод , что белки – это главный компонент живых организмов. Затем из белковых гидролизатов были получены продукты расщепления и возникли гипотезы о строении белков из аминокисло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L23p10p01"/>
          <p:cNvPicPr/>
          <p:nvPr/>
        </p:nvPicPr>
        <p:blipFill>
          <a:blip r:embed="rId1"/>
          <a:stretch/>
        </p:blipFill>
        <p:spPr>
          <a:xfrm>
            <a:off x="5003640" y="3789360"/>
            <a:ext cx="3770640" cy="28274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4920" y="691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мецкий химик Эмиль Фишер первым выяснил, как построены молекулы белков и заложил основы их химического синтеза. В начале 20 века Фишер доказал пептидную теорию строения белков, выдвинутую русским химиком Данилевским, синтезировав полипептиды состоящие из 3 – 18 аминокислотных остат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Фредерик Грант Бантинг – канадский ученый, в 1923 году  стал лауреатом Нобелевской премии за открытие и изучение инсули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187880" cy="62056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1"/>
          <p:cNvSpPr/>
          <p:nvPr/>
        </p:nvSpPr>
        <p:spPr>
          <a:xfrm>
            <a:off x="539640" y="64911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(14.11.1891–22.2.194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11280" y="90792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1992 году был получен гормон инсулин, позво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ляющий контролировать сахарный диаб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4356000" y="3530520"/>
            <a:ext cx="439272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акс Фердинанд Перутц – австрийский ученый,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 1937 года изучал структуру гемоглоби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4210200" cy="57625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9"/>
          <p:cNvSpPr/>
          <p:nvPr/>
        </p:nvSpPr>
        <p:spPr>
          <a:xfrm>
            <a:off x="759240" y="630864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(1914-2002), Авст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{BBE8BE40-FBA9-4281-A2D5-AEA24EA34F5E}"/>
          <p:cNvPicPr/>
          <p:nvPr/>
        </p:nvPicPr>
        <p:blipFill>
          <a:blip r:embed="rId1"/>
          <a:stretch/>
        </p:blipFill>
        <p:spPr>
          <a:xfrm>
            <a:off x="4067280" y="3284640"/>
            <a:ext cx="4716360" cy="3295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250560" y="189000"/>
            <a:ext cx="8893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кс Фердинанд Перутц 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сшифровал пространственное строение молеку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моглобина и построил ее точную моде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Член Национальной академии наук США (с 1970 года), Австрийской АН в Вене (с 1963 года), Американской академии искусств и наук (с 1963 года). Лауреат Нобелевской премии по химии за 1962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7720" y="4143240"/>
            <a:ext cx="294804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рансуа Жакоб (р.1920) – французский микробиол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фото"/>
          <p:cNvPicPr/>
          <p:nvPr/>
        </p:nvPicPr>
        <p:blipFill>
          <a:blip r:embed="rId1"/>
          <a:stretch/>
        </p:blipFill>
        <p:spPr>
          <a:xfrm>
            <a:off x="285840" y="357120"/>
            <a:ext cx="3571920" cy="3648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фото 2"/>
          <p:cNvPicPr/>
          <p:nvPr/>
        </p:nvPicPr>
        <p:blipFill>
          <a:blip r:embed="rId2"/>
          <a:stretch/>
        </p:blipFill>
        <p:spPr>
          <a:xfrm>
            <a:off x="5214960" y="304920"/>
            <a:ext cx="3081240" cy="358776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5"/>
          <p:cNvSpPr/>
          <p:nvPr/>
        </p:nvSpPr>
        <p:spPr>
          <a:xfrm flipV="1" rot="10800000">
            <a:off x="5285880" y="4032000"/>
            <a:ext cx="307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Жак Люсьен Моно (1910-1976) – французский биохимик  и микробиол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08:36:41Z</dcterms:created>
  <dc:creator>Customer</dc:creator>
  <dc:description/>
  <dc:language>en-US</dc:language>
  <cp:lastModifiedBy>Student</cp:lastModifiedBy>
  <dcterms:modified xsi:type="dcterms:W3CDTF">2012-03-31T06:11:14Z</dcterms:modified>
  <cp:revision>6</cp:revision>
  <dc:subject/>
  <dc:title>Тема: Белки. Проблема  синтеза белков</dc:title>
</cp:coreProperties>
</file>